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447-5BF4-4072-8E30-4A50CDC4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0A8-75E5-4040-8F56-E63C8FB9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8FA-7870-446D-AEF9-CBB01B17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55B-78CE-48F7-B342-EE5088D7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DCA-0447-45E5-8AEE-1CA4DD2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B41-6FA6-469D-8C18-D09AC703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6B5-89E9-4C87-92C9-68FC34C9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198-FBF2-407D-A5D4-6ADC4FEC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370-659C-4C9D-B9E2-69A7CE82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0FD-D62E-48C1-A49F-19A7C7F3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135-0A89-428B-88E8-1662AAA2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305-FCC0-4F79-989E-E4F06A2E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4BA-3D8B-4C3D-8596-C2C8CF1C95D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FOL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(Primera Evaluació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Cuest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ienes pueden convocar una Huelg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43000" y="249984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PRESENTANTES DE LOS TRABAJADORES (delegados y comi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ROPIOS TRABAJADORES DE LA PLANTILLA CON UN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Cual es la duración maxima del Período de Prueba p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50020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Técnicos Titulados:  6 ME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sto de trabajadores: 2 ME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sto de trabajadores en empresas de menos de 25 trabajadores: 3 ME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Cuál es la edad legal para trabaj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16 AÑ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Cuales son los efectos o consecuencias de secundar una huelga para los/as trabajadores/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EXTINCIÓN DE LA RELACION LAB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USPENSIÓN DEL CONTR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SAL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COTIZACIÓN (DESEMPLEO, 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LTA ESPECIAL EN S.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De qué formas se puede formalizar un contrato de trabaj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857320"/>
            <a:ext cx="64008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ESCR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A quiénes hay que comunicar la convocatoria de huelg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EMPRESAS O EMPRESARIOS AFECT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AUTORIADAD LABORAL (Juzgado de lo Soci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Con cuánto tiempo de antelación, mínimo, se ha de comunicar la convocatoria de una Huelg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5 d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10 en servicios públ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numerar los apartados de un contrato de traba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ODAL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IPO DE CONTRA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TOS DE LA EMP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ATOS DEL TRABAJ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UTORIZACIÓN A MEN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LAUSUL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UESTO Y CATEGORIA PROFES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JORN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URACIÓN Y PERÍODO DE PRUEB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RETRIBU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VACAC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DEMNIZA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NVENIO COLECTI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OFICINA DE EMPLE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ECHA Y FI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numerar 3 derechos de los trabaj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numerar 3 Obligaciones de los trabaj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¿Qué formas tienen las normas que aprueba el Parlamento por mayoría absoluta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y orga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ORDENA LAS SIGUIENTE NORMAS SEGÚN SU RANGO (Jerarquía normativ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eyes Ordinarias (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irectivas Comunitarias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venio Colectivo (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eyes Orgánicas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ales Decretos (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ales Decreto-Ley (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trato de Trabajo (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Enumerar las parcelas del Derecho Públ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stitu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ministr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ce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is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rnacional públ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formas tienen las normas que aprueba en el Parlamento Europe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DIRECTIVA Y REGL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Enumerar las parcelas del Derecho Priv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RCA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BORAL O DEL TRABAJ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NACIONAL PRIV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formas tienen las normas que aprueba el Consejo de Ministro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AL DECRE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formas tienen las normas que aprueban entre empresarios y trabajado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CONVENIOS COLECTIV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CONTRATOS DE TRABAJ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Calibri"/>
              </a:rPr>
              <a:t>USO COSTUMBRES LOCALES Y PROFESIO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Qué condiciones tiene que cumplir el trabajo para que se pueda aplicar el Derecho del trabaj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LIBRE Y VOLUN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CUENTA AJ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TRIBU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REGIMEN DE DEPEND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6:13:35Z</dcterms:created>
  <dc:creator>usuario</dc:creator>
  <dc:description/>
  <dc:language>en-US</dc:language>
  <cp:lastModifiedBy>Automoción</cp:lastModifiedBy>
  <dcterms:modified xsi:type="dcterms:W3CDTF">2010-11-30T18:35:08Z</dcterms:modified>
  <cp:revision>13</cp:revision>
  <dc:subject/>
  <dc:title>¿Qué formas tienen las normas que aprueba el Parlamento por mayoría absoluta?</dc:title>
</cp:coreProperties>
</file>